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02A-F6B5-4438-AAF7-10C8B1B9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1ED-03A3-49D0-8806-3455792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270-690C-4AD2-9CE7-D8F0E3FD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C4C-475D-4F5D-9138-3A074F8C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85B-7F5C-47BF-B224-54DF5A8B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8C2-F149-4429-95DF-2454C7DA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409-CAFC-4FB0-AA5F-833D0CC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F86-6038-4F83-8260-2EA711C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A75-2B51-4537-975C-3BFAE362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DF1-43F8-45C9-99D5-1D77C25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DFF-39DF-4F77-98EF-221BA53D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DCF-F61E-43CF-832E-DB3DCD2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E61-7AEA-411B-8EB5-078B151A4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MINISTERIO DE ORACION INTERCES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INISTERIO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Invite a las personas a partici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Haga un calendario de reun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scoja un lugar de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Incluya lista de temas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repare libro de pedidos y agrade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rovea tiempo para cantar, agradecer, l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¿Cómo Organiza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Alterne las actividades con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Incluya libros que hablen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rabaje en unión con el pastor, con los departamentos de la iglesia y ajustada a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raiga amigos a l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¿Cómo Organiza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uede reunirse más de una vez por se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l tiempo debe ser corto, no más de 20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uede organizarlo como parte del ministerio de conservación o re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¿Cómo Organiza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Organiza la promoción del minist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Dirige las reun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Promueve actividad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Mantiene el ambiente espiritual en la reu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ctúa como responsable por las personas del grupo interesadas en conocer a Jesú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Mantiene la lista actualizada de los particip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Busca materiales y otros medios creativos y espirituales para mantener el interés en el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La Coordin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gistra los da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repara tarjetas para las diferentes modalidades de ped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cibe los ped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antiene el registro de las oraciones respo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gistra los datos de los interesados en estudiar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La Secre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 los grupos peque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Antes de iniciar el c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espués del c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omo parte del programa evangelí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omo programa de los jóv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 forma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Dónde Puede Funci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Himno de Alab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evocional (5 minu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estimonios oraciones respondidas (cortos y organ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gistro oraciones respo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istribución pedidos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omento oración nuevos ped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Himno de Gra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endic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rograma Antes o Después del C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Alab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omento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evocional (10 minu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estimonios oraciones respondidas (Caja de 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istribución de los pedidos entre los miembros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omento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Himno de Gra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endic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rograma Grupo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s muy importante que exista un representante de este ministerio en cada grupo pequeño.  El ministerio de Oración intercesora debe ir ligado estrechamente con los periodos de siembra, cosecha y consolid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Grupos Pequeños y el Ministerio de Oración Interces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540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 Gru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 Par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 Ca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ón silen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uro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deas para 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s-ES" sz="4000" spc="-1" strike="noStrike">
                <a:solidFill>
                  <a:srgbClr val="cc0066"/>
                </a:solidFill>
                <a:latin typeface="Arial"/>
              </a:rPr>
              <a:t>En tiempos pasados, había quienes fijaban su mente en un alma tras otra, diciendo:  Señor ayúdame a salvar esta alma.  Pero ahora escasean mucho los tales casos.  ¿Cuántos toman a aquellos a quienes saben que están en peligro y los presentan a Dios en oración, suplicándole que los salve? (Ev. P. 35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540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Arbol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Bolsa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Agenda de peticiones y agrade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Cojines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Jardín de 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deas para 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 oración como ejercicio, porque nos traerá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 oración como disciplina, porque es algo que se debe h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 Oración como el encuentro anhelado de una relación estrecha de intimidad, amor y dependencia de 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Actitudes Humanas al 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ón Personal (Mateo 6:6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ón Intercesora (Daniel, Moisés, Esd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ón Corporativa, cuando el pueblo de Dios se une para orar con un propósito defi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Facetas de la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durante todo el 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por todos y por 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sin palabras en oca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Dedique tiempo específico para 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repare un lugar especial para 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por toda su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por el mundo y sus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por quienes han de llegar a los pies de Jesú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La Llave que abre las ventanas de los ci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omos privilegiados como hijos redimidos al poder 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r nos ayuda a comprender nuestra razón de exis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A medida que oramos, Dios se hará más real y  más grande para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romes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A través de la oración oiremos y reconoceremos la voz de 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ncontraremos  el verdadero el amor de nuestra vida : Jesú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mpezaremos a disfrutar el hogar celestial aquí en la  tier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rom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ones apresuradas y precipi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 oración es descuidada por el bullicio y la ost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ultitud de preocup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acrificamos el tiempo para orar por situaciones tem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Barr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A menos que pase dos horas en oración cada mañana, el diablo gana la victoria durante el dí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Martín Lutero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G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uestro Padre está esperando para derramar sobre nosotros la plenitud de sus bendiciones.  Es privilegio nuestro, beber de la fuente de amor infinito. ¡Qué extraño que oremos tan po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(C. C. P. 94, 95)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G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La oración es la respuesta a todo problema en la vida; nos pone a tono con la sabiduría divina, la cual sabe como ajustar cada cosa perfectamente.  A menudo dejamos de orar en ciertas situaciones porque desde nuestro punto de vista, aparentemente no tienen solución.  Pero nada es imposible para Dios …(Review and Herald Octubre 7, 1865)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G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280" y="1628640"/>
            <a:ext cx="6800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En tiempos pasados, había quienes fijaban su mente en un alma tras otra diciendo:  “Señor ayúdame a salvar esta alma”…¿Cuántos obran como si se diesen cuenta del peligro que corren los pecadores? ¿Cuántos toman a Aquellos a quienes saben que están en peligro y los presentan a Dios en oración, suplicándole que los sa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66"/>
                </a:solidFill>
                <a:latin typeface="Arial"/>
              </a:rPr>
              <a:t>(Evangelismo P.3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-171360"/>
            <a:ext cx="720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Oración Interces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ación intercesora es el acto de orar y clamar a Dios por otra persona. Este ministerio ministra a otros a través de la oración por Alguien especial o por un proyecto a favor de la salvación de las al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otivar e incentivar a cada miembro de la Iglesia para interceder por el pueblo de Dios y por quienes están en peligro de perecer etern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lija una líder y una secre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lija un encargado de publ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lija una o dos vo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¿Cómo Organiza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8720" y="-171360"/>
            <a:ext cx="74865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¿Cómo Buscar a D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Sentir la necesidad de O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Arrepent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ersevera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Dilig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Obedi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Entr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Sug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continu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Estraté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Geográf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re con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a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 oración se torna prio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fuerza ministerio de los líd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s una bendición para el particip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rea condiciones para que Dios actú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onserva y afirma nuevos crey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7:15:18Z</dcterms:created>
  <dc:creator>Benny Rodríguez</dc:creator>
  <dc:description/>
  <dc:language>en-US</dc:language>
  <cp:lastModifiedBy>Benny Rodríguez</cp:lastModifiedBy>
  <dcterms:modified xsi:type="dcterms:W3CDTF">2006-11-03T12:16:12Z</dcterms:modified>
  <cp:revision>10</cp:revision>
  <dc:subject/>
  <dc:title>MINISTERIO DE ORACION INTERCESORA</dc:title>
</cp:coreProperties>
</file>